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99F-E190-4B44-BB9B-94368B7AF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FAA5-E945-4C74-B1B5-F4760F063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D60-0C9C-47CB-AEF5-F507EF2AE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7CC-0935-4022-B374-15F663044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1ED-B427-4742-B434-A62A5E146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932C-9230-41D6-9776-847B7EEE8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6056-5EB0-42B2-867B-7560ED25F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72F-F80A-4B04-822C-4F2881B3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9EE-8741-4793-8CA4-ADDB053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9F4-7340-488F-A230-5490490C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0DC-76D9-4808-B6FE-796AC289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18-3DBF-4DED-8864-919A14D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D89-5574-4690-A0C1-F2E7CA05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FA2-C4B7-4E93-85FD-DD545B7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59B-FA4A-4821-B754-1EB5C24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DA8-974F-43F0-A879-D3152994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B21-C600-423A-8ACF-996EA7F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FA2-3BA0-485C-BC6C-4822690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2F6-E1E1-47C9-86BA-CDF7491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AA9-75A7-4E8E-9443-955473B0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357200" y="857160"/>
            <a:ext cx="65008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the correct flashcard around the room to express your opinions of the activities you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 ejemplo: for &lt;&lt;practicar la gimnasia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uld you go to...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enc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da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leisure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the forms of the verb “to 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how to describe something that is going to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195640" y="1268280"/>
            <a:ext cx="475272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, vas, va es 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y, vas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mos, vais, van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mos, vais,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, vais, van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, vais,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h señor vamos, vais,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95280" y="333360"/>
            <a:ext cx="1655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627280" y="333360"/>
            <a:ext cx="19447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333360"/>
            <a:ext cx="309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 / she / it is going / you (polite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0920" y="2133720"/>
            <a:ext cx="165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2997360"/>
            <a:ext cx="165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ural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164360" y="2276640"/>
            <a:ext cx="16556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going / you (plural, polite) are 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403280" y="765000"/>
            <a:ext cx="865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3348000" y="76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4211640" y="1052640"/>
            <a:ext cx="100800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1908000" y="249228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V="1">
            <a:off x="1908000" y="2997000"/>
            <a:ext cx="1656000" cy="50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 flipV="1">
            <a:off x="4932360" y="2997000"/>
            <a:ext cx="2232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39640" y="1197000"/>
            <a:ext cx="784872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 I am going to listen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am going =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listen to music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.g. vo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jugar al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067280" y="2492280"/>
            <a:ext cx="38178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cuchar 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1844640"/>
            <a:ext cx="287964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gic ingre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404640"/>
            <a:ext cx="83534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y a jugar al balonc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am going to play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oy a practicar el ciclismo porque 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am going to go cycling because it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fin de semana que viene, voy a ir a Barnsta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ext weekend I am going to go to Barnsta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urante el mi-trimestre voy a jugar al balonmano porque es divertido y social, y me gust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half-term I am going to play handball because it is fun and sociable, and I really lik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24:01Z</dcterms:created>
  <dc:creator>Owner1</dc:creator>
  <dc:description/>
  <dc:language>en-US</dc:language>
  <cp:lastModifiedBy>Chris</cp:lastModifiedBy>
  <dcterms:modified xsi:type="dcterms:W3CDTF">2009-01-28T10:04:25Z</dcterms:modified>
  <cp:revision>6</cp:revision>
  <dc:subject/>
  <dc:title>Slide 1</dc:title>
</cp:coreProperties>
</file>